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7CB-7671-4A10-BA4B-2B9D78E7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B1D-B044-439E-8ABB-4C0859C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53E-BD8E-4EE3-9ED3-6EC40C2C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B9F-9C4A-438B-A334-4E4195FA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E5F-26A5-4252-99F7-8C21A47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11C-5051-41C8-B710-036D976A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C9F-19DF-4F37-A536-19C41CAE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FDB-2D95-4CE4-A569-E0FE262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FE0-99AF-44C7-845B-76C2D79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991-6E83-49F4-A74A-DFD5D65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AB7-AB1E-411D-9D9C-254B3D7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768-6D6A-4B96-8657-FE5E41D7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A6E-E022-4D33-9EBF-648C5ABBB8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066680"/>
            <a:ext cx="7619760" cy="330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3240" y="6033960"/>
            <a:ext cx="55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t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1120" y="1371600"/>
          <a:ext cx="6379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371600"/>
                    <a:ext cx="637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3048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419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F: ATTREZZATURE SPOR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895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STRUTTURE SPORTIVE COPERTE (Palest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2670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MPIANTI SPORTIVI E PISCINE ALL’A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G: ALTRE INFORMA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048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3434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048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SERVIZIO M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343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ZIENDA AGRI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92040"/>
            <a:ext cx="822960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752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DIZIONI DI SICUREZZA: Aspetti docum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26668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96252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533412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666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rtificazioni /autorizzazioni (strutture, impianti, attiv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886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ocumentazione antincendio (conformità e collaudo imp., registro dei controllo, C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5334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dempimenti D.Lgs. 626/94 (DVR e 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92040"/>
            <a:ext cx="822960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752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CONDIZIONI DI SICUREZZA: Aspetti correlati al      DM 26/08/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533412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96252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1952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9289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PI (n°presenze contemporanee &gt;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38098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LE (Interne ed Ester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I CARR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2578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MP. DI SPEGNIMENTO DEGLI INCENDI (idranti/estintori/riserva idrica antin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80880"/>
            <a:ext cx="822960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752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DIZIONI DI SICUREZZA: Impianti di produzione del cal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81952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410080"/>
            <a:ext cx="742680" cy="84960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9289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bicazione locale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962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pologia impi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i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5562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4880" y="2243160"/>
            <a:ext cx="42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971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8954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ORGIMENTI SPECIFICI PER L’ELIMINAZIONE DELLE B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752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REQUISITI PARTICOLARI: Barriere Architettoniche (DPR 503/9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373392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1814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581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i (rampe/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orsi (esterni e inter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02920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rvizi Igie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scensori/Servoscala/Piattaforme elev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752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REQUISITI PARTICOLARI: Risparmio Energetico       (L. 10/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8954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038480"/>
            <a:ext cx="742680" cy="84960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410080"/>
            <a:ext cx="742680" cy="84960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onizzazione imp. te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ipologia infi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9625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olamento Term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pareti esterne/coper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33412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nelli s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tre sol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981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REQUISITI PARTICOLARI: Isolamento Acus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9718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solamento dalla Rumorosita’ es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43434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solamento dalla Rumorosita’ Interna (locali adiacenti/sovrasta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D: CONDIZIONI DI SICUREZZA E REQUISITI PARTICOL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REQUISITI PARTICOLARI: Condizioni di insalubr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2743200"/>
            <a:ext cx="742680" cy="84924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038480"/>
            <a:ext cx="743040" cy="84960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48640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124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erazione dei lo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vigionamento i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5943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ianto (DM 6/9/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Z. E: CARATTERISTICHE FUNZIONALI E DIMENSIONALI DEI LOC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981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ODULO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666880"/>
            <a:ext cx="742680" cy="849600"/>
          </a:xfrm>
          <a:custGeom>
            <a:avLst/>
            <a:gdLst>
              <a:gd name="textAreaLeft" fmla="*/ 99360 w 742680"/>
              <a:gd name="textAreaRight" fmla="*/ 643320 w 742680"/>
              <a:gd name="textAreaTop" fmla="*/ 128160 h 849600"/>
              <a:gd name="textAreaBottom" fmla="*/ 64836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73392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105520"/>
            <a:ext cx="743040" cy="849240"/>
          </a:xfrm>
          <a:custGeom>
            <a:avLst/>
            <a:gdLst>
              <a:gd name="textAreaLeft" fmla="*/ 99360 w 743040"/>
              <a:gd name="textAreaRight" fmla="*/ 643680 w 743040"/>
              <a:gd name="textAreaTop" fmla="*/ 128160 h 849240"/>
              <a:gd name="textAreaBottom" fmla="*/ 64800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20" stAng="-5400000" swAng="-5400000"/>
                <a:lnTo>
                  <a:pt x="0" y="13224"/>
                </a:lnTo>
                <a:arcTo wR="21600" hR="6520" stAng="10800000" swAng="-2429244"/>
                <a:lnTo>
                  <a:pt x="14400" y="21227"/>
                </a:lnTo>
                <a:lnTo>
                  <a:pt x="21600" y="16391"/>
                </a:lnTo>
                <a:lnTo>
                  <a:pt x="14400" y="10809"/>
                </a:lnTo>
                <a:lnTo>
                  <a:pt x="14400" y="12666"/>
                </a:lnTo>
                <a:arcTo wR="21600" hR="6520" stAng="8370756" swAng="1813904"/>
                <a:lnTo>
                  <a:pt x="3074" y="9872"/>
                </a:lnTo>
                <a:arcTo wR="21600" hR="6520" stAng="-10184660" swAng="4784660"/>
                <a:close/>
              </a:path>
              <a:path fill="darkenLess" w="21600" h="21600">
                <a:moveTo>
                  <a:pt x="21600" y="0"/>
                </a:moveTo>
                <a:arcTo wR="21600" hR="6520" stAng="-5400000" swAng="-5400000"/>
                <a:lnTo>
                  <a:pt x="0" y="6520"/>
                </a:lnTo>
                <a:arcTo wR="21600" hR="6520" stAng="10800000" swAng="-615340"/>
                <a:lnTo>
                  <a:pt x="3074" y="9872"/>
                </a:lnTo>
                <a:arcTo wR="21600" hR="6520" stAng="-10184660" swAng="478466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51460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zione dei lo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tipologia/ubic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65760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tteristiche dimens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i correlati alla dest.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800600"/>
            <a:ext cx="5333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enze igienico-struttu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isiti particolari (U.E./B.A./utilizzo da parte di altre scu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fracassid</cp:lastModifiedBy>
  <cp:lastPrinted>2001-10-08T13:44:49Z</cp:lastPrinted>
  <dcterms:modified xsi:type="dcterms:W3CDTF">2004-09-21T16:33:44Z</dcterms:modified>
  <cp:revision>182</cp:revision>
  <dc:subject/>
  <dc:title>Nessun titolo diapositiva</dc:title>
</cp:coreProperties>
</file>