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52B-F22C-422E-AF39-DFD29CD2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FAA-6429-4C27-9522-69020D75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E1F-55B9-49D1-9911-B8A0C60E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604-98C1-4565-AA9F-89461D90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98C-C04B-48E6-8ACF-43C813A4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6DF-D68E-46E5-9C95-DB33274D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107-020E-4E5D-BA7B-48D73D78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BBD-BA2D-43CD-A157-2A286686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99B6-747B-4650-B92C-705D4015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F5A-41DD-4E54-88AE-CD602B1C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91D-385B-44EC-812B-4CE4F710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6F3-00B0-462D-B595-C3E93431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52D6-B895-4DE1-9572-D83DA8466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066680"/>
            <a:ext cx="7619760" cy="330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GETTO M.I.U.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agrafe dell’edilizia scolas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03240" y="6033960"/>
            <a:ext cx="55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ttembr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1120" y="1371600"/>
          <a:ext cx="63792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1371600"/>
                    <a:ext cx="6379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5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523880"/>
            <a:ext cx="90676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Superamento dei modelli linear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Nascita dei modelli che definiscono la comunicazione come evento interattivo in cui ogni partecipante occupa tutti i ruol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Filone di studi e ricerche cognitiviste - costruzione della realt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380880"/>
            <a:ext cx="495288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LA COMUNIC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380880"/>
            <a:ext cx="577836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RAPPORTO SOGGETTO-REALT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828800"/>
            <a:ext cx="88520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rappresentazione di un oggetto non è un sua copia, ma una su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ricostru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non vi è rapporto immediato né sovrapposizione tra realtà interna ed ester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utte le nostre percezioni sono mediate d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schemi mental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attraverso cui si semplificano ed organizzano le conoscenze in funzione di influenze di carattere situazionale, sociale e cultu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52480" y="304920"/>
            <a:ext cx="512136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LA PERCE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1447920"/>
            <a:ext cx="6213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Le persone non sono passivi ricevit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2971800"/>
            <a:ext cx="8778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Ogni informazione è filtrata, organizzata, ristrutturata ed infine collocata in categorie che gli permettono di semplificare ed organizzare la complessità delle esperienze social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280" y="1828800"/>
            <a:ext cx="870588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 u="sng">
                <a:solidFill>
                  <a:srgbClr val="000000"/>
                </a:solidFill>
                <a:uFillTx/>
                <a:latin typeface="Comic Sans MS"/>
              </a:rPr>
              <a:t>Economizzatore di risorse cogn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mic Sans MS"/>
              </a:rPr>
              <a:t>Si attua attraverso l’uso di meccanismi psicologici definiti </a:t>
            </a:r>
            <a:r>
              <a:rPr b="1" lang="it-IT" sz="2300" spc="-1" strike="noStrike" u="sng">
                <a:solidFill>
                  <a:srgbClr val="000000"/>
                </a:solidFill>
                <a:uFillTx/>
                <a:latin typeface="Comic Sans MS"/>
              </a:rPr>
              <a:t>inferenze categoriali</a:t>
            </a:r>
            <a:r>
              <a:rPr b="0" lang="it-IT" sz="23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300" spc="-1" strike="noStrike">
                <a:solidFill>
                  <a:srgbClr val="000000"/>
                </a:solidFill>
                <a:latin typeface="Comic Sans MS"/>
              </a:rPr>
              <a:t>Rappresentatività </a:t>
            </a:r>
            <a:r>
              <a:rPr b="0" lang="it-IT" sz="2300" spc="-1" strike="noStrike">
                <a:solidFill>
                  <a:srgbClr val="000000"/>
                </a:solidFill>
                <a:latin typeface="Comic Sans MS"/>
              </a:rPr>
              <a:t>può portare ad errori di stima dovuti alla visione soggettiva e all’attribuzione di somiglianza</a:t>
            </a:r>
            <a:r>
              <a:rPr b="1" lang="it-IT" sz="23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300" spc="-1" strike="noStrike">
                <a:solidFill>
                  <a:srgbClr val="000000"/>
                </a:solidFill>
                <a:latin typeface="Comic Sans MS"/>
              </a:rPr>
              <a:t>Disponibilità </a:t>
            </a:r>
            <a:r>
              <a:rPr b="0" lang="it-IT" sz="2300" spc="-1" strike="noStrike">
                <a:solidFill>
                  <a:srgbClr val="000000"/>
                </a:solidFill>
                <a:latin typeface="Comic Sans MS"/>
              </a:rPr>
              <a:t>frequenza o probabilità in funzione alla facilità di associazione al ripetersi delle esperienze</a:t>
            </a:r>
            <a:r>
              <a:rPr b="1" lang="it-IT" sz="23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380880"/>
            <a:ext cx="512136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LA PERCE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39040" y="643104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2133720"/>
            <a:ext cx="8632800" cy="32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cienziato ingenu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sigenza di trovare sempre un nesso causale tra le cos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Ricercatore di coerenz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endenza a mantenere un elevato grado di coerenza tra le proprie credenze e le informazioni raccolt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533520"/>
            <a:ext cx="512136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LA PERCE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03840" y="533520"/>
            <a:ext cx="62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LLO DI INTERAZIONE CIRCOLA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92040" y="4952880"/>
            <a:ext cx="1058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omic Sans MS"/>
              </a:rPr>
              <a:t>RUM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114800"/>
            <a:ext cx="1676520" cy="762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4191120"/>
            <a:ext cx="1676520" cy="7617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3124080"/>
            <a:ext cx="1981080" cy="762120"/>
          </a:xfrm>
          <a:prstGeom prst="rect">
            <a:avLst/>
          </a:prstGeom>
          <a:gradFill rotWithShape="0">
            <a:gsLst>
              <a:gs pos="0">
                <a:srgbClr val="6dfb6d"/>
              </a:gs>
              <a:gs pos="100000">
                <a:srgbClr val="32733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365760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AN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31200" y="365760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AN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342900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4290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380520" y="5028840"/>
            <a:ext cx="8077320" cy="1371600"/>
          </a:xfrm>
          <a:custGeom>
            <a:avLst/>
            <a:gdLst>
              <a:gd name="textAreaLeft" fmla="*/ 1413360 w 8077320"/>
              <a:gd name="textAreaRight" fmla="*/ 5856120 w 8077320"/>
              <a:gd name="textAreaTop" fmla="*/ 183600 h 1371600"/>
              <a:gd name="textAreaBottom" fmla="*/ 1188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11000" y="2362320"/>
            <a:ext cx="114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40200" y="2362320"/>
            <a:ext cx="114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3200400"/>
            <a:ext cx="1828800" cy="762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3124080"/>
            <a:ext cx="1828800" cy="7621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92040" y="2286000"/>
            <a:ext cx="1058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omic Sans MS"/>
              </a:rPr>
              <a:t>RUM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752480"/>
            <a:ext cx="8077320" cy="1371600"/>
          </a:xfrm>
          <a:custGeom>
            <a:avLst/>
            <a:gdLst>
              <a:gd name="textAreaLeft" fmla="*/ 1413360 w 8077320"/>
              <a:gd name="textAreaRight" fmla="*/ 5856120 w 8077320"/>
              <a:gd name="textAreaTop" fmla="*/ 183600 h 1371600"/>
              <a:gd name="textAreaBottom" fmla="*/ 1188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11000" y="5334120"/>
            <a:ext cx="114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45120" y="5257800"/>
            <a:ext cx="114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82400" y="2590920"/>
            <a:ext cx="114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40200" y="2438280"/>
            <a:ext cx="114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5120" y="3352680"/>
            <a:ext cx="1384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EMITT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41200" y="3352680"/>
            <a:ext cx="1351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RICEV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3352680"/>
            <a:ext cx="1828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MESSAGG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1487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ODIF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07000" y="4419720"/>
            <a:ext cx="1505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DECODIF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1447920"/>
            <a:ext cx="863280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 u="sng">
                <a:solidFill>
                  <a:srgbClr val="000000"/>
                </a:solidFill>
                <a:uFillTx/>
                <a:latin typeface="Comic Sans MS"/>
              </a:rPr>
              <a:t>CANA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Mezzo fisico che rende possibile ladiffusione del messagg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 u="sng">
                <a:solidFill>
                  <a:srgbClr val="000000"/>
                </a:solidFill>
                <a:uFillTx/>
                <a:latin typeface="Comic Sans MS"/>
              </a:rPr>
              <a:t>RICEV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Colui che riceve e interpreta il messagg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380880"/>
            <a:ext cx="512136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DEFINIZION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1447920"/>
            <a:ext cx="863280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EMITT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olui che produce il messagg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ODI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istema di riferimento in base al quale il messaggio viene prodot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MESSAGGI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formazione trasmessa secondo le regole del codi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380880"/>
            <a:ext cx="512136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DEFINIZION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1447920"/>
            <a:ext cx="8632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8088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OSTACOLI DELLA COMUNIC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295280"/>
            <a:ext cx="863280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omic Sans MS"/>
              </a:rPr>
              <a:t>EMITT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Ostacoli oggettivi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formulazi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scelta del mezz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problemi tecnic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precisione del pensie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espressi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276720"/>
            <a:ext cx="685800" cy="1676160"/>
          </a:xfrm>
          <a:custGeom>
            <a:avLst/>
            <a:gdLst>
              <a:gd name="textAreaLeft" fmla="*/ 0 w 685800"/>
              <a:gd name="textAreaRight" fmla="*/ 247680 w 6858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37280" y="3575520"/>
            <a:ext cx="134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stac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5486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31120" y="5632920"/>
            <a:ext cx="1322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 ten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1447920"/>
            <a:ext cx="8632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38088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OSTACOLI DELLA COMUNIC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295280"/>
            <a:ext cx="863280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omic Sans MS"/>
              </a:rPr>
              <a:t>EMITT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Legati alla personalità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atteggia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soggettività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storia persona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conoscenza di sé stess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calarsi nell’alt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3276720"/>
            <a:ext cx="685800" cy="1676160"/>
          </a:xfrm>
          <a:custGeom>
            <a:avLst/>
            <a:gdLst>
              <a:gd name="textAreaLeft" fmla="*/ 0 w 685800"/>
              <a:gd name="textAreaRight" fmla="*/ 247680 w 6858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37280" y="3575520"/>
            <a:ext cx="134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stac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5486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1120" y="5632920"/>
            <a:ext cx="1322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 ten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2362320"/>
            <a:ext cx="9067680" cy="26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 il termine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MUNICAZION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intende la capacità di  trasferire informazi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’ un processo di influenzamento reciproco che avviene tra due o più pers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380880"/>
            <a:ext cx="495288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LA COMUNIC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1447920"/>
            <a:ext cx="8632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8088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OSTACOLI DELLA COMUNIC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295280"/>
            <a:ext cx="863280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omic Sans MS"/>
              </a:rPr>
              <a:t>EMITT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Fattori psicosociali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ruol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situazi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definizione precis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ruoli e obiettiv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conoscenza situazi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08440" y="3272400"/>
            <a:ext cx="134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stac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5486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1120" y="5632920"/>
            <a:ext cx="1322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 ten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200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1447920"/>
            <a:ext cx="8632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38088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OSTACOLI DELLA COMUNIC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295280"/>
            <a:ext cx="863280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omic Sans MS"/>
              </a:rPr>
              <a:t>RICEV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Ostacoli oggettivi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comprension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saturazion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formulazion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disponibilità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capacità d’ascol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08440" y="3272400"/>
            <a:ext cx="134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stac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10280" y="5486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31120" y="5632920"/>
            <a:ext cx="1322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 ten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200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1447920"/>
            <a:ext cx="8632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8088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OSTACOLI DELLA COMUNIC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1295280"/>
            <a:ext cx="863280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800000"/>
                </a:solidFill>
                <a:latin typeface="Comic Sans MS"/>
              </a:rPr>
              <a:t>RICEV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 u="sng">
                <a:solidFill>
                  <a:srgbClr val="000000"/>
                </a:solidFill>
                <a:uFillTx/>
                <a:latin typeface="Comic Sans MS"/>
              </a:rPr>
              <a:t>Legati alla personalità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- percezi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- deformazion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- interpretazi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61080" y="3729600"/>
            <a:ext cx="134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stac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3276720"/>
            <a:ext cx="533520" cy="1600200"/>
          </a:xfrm>
          <a:custGeom>
            <a:avLst/>
            <a:gdLst>
              <a:gd name="textAreaLeft" fmla="*/ 0 w 533520"/>
              <a:gd name="textAreaRight" fmla="*/ 192600 w 5335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1447920"/>
            <a:ext cx="8632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8088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OSTACOLI DELLA COMUNIC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863280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800000"/>
                </a:solidFill>
                <a:latin typeface="Comic Sans MS"/>
              </a:rPr>
              <a:t>RICEV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 u="sng">
                <a:solidFill>
                  <a:srgbClr val="000000"/>
                </a:solidFill>
                <a:uFillTx/>
                <a:latin typeface="Comic Sans MS"/>
              </a:rPr>
              <a:t>Fattori psicosociali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- ruol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- situazi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03880" y="3348720"/>
            <a:ext cx="134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stac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3200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1447920"/>
            <a:ext cx="8632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380880"/>
            <a:ext cx="60199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COMUNIC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295280"/>
            <a:ext cx="251460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omic Sans MS"/>
              </a:rPr>
              <a:t>VERBA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omic Sans MS"/>
              </a:rPr>
              <a:t>PARAVERBA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omic Sans MS"/>
              </a:rPr>
              <a:t>NON VERBA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144792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2666880"/>
            <a:ext cx="1219320" cy="381240"/>
          </a:xfrm>
          <a:prstGeom prst="rightArrow">
            <a:avLst>
              <a:gd name="adj1" fmla="val 50000"/>
              <a:gd name="adj2" fmla="val 7995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733920"/>
            <a:ext cx="1219320" cy="380880"/>
          </a:xfrm>
          <a:prstGeom prst="rightArrow">
            <a:avLst>
              <a:gd name="adj1" fmla="val 50000"/>
              <a:gd name="adj2" fmla="val 80033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1290960"/>
            <a:ext cx="429732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ROLE, FRASI, DISCOR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SSA AL 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359440"/>
            <a:ext cx="429732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NO, TIMBRO, VOLUME, INFLE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SSA AL 3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3883320"/>
            <a:ext cx="429732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INGUAGGIO DEL CORP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SSA AL 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11320" y="42696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533520"/>
            <a:ext cx="67309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LA COMUNICAZIONE NON VERB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828800"/>
            <a:ext cx="680256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spetto fis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Gestualità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ostur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spressioni del vol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Direzione dello sguard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ono della vo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Distanz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9560" y="228600"/>
            <a:ext cx="511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911320" y="42696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380880"/>
            <a:ext cx="6730920" cy="885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UN EMITTENTE PER COMUNICARE EFFICACEMENTE DEV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1905120"/>
            <a:ext cx="870588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dichiarare lo scopo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scegliere il codice appropriato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dare informazioni utili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garantire coerenza tra messaggio e meta-comunicazion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capire o chiedere feed-back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tenere conto dei giudizi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911320" y="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609480"/>
            <a:ext cx="563256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UN BUON ASCOLTATORE DEV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2057400"/>
            <a:ext cx="870588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assumere atteggiamento positivo e incoraggiante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mostrare interess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praticare l’autodisciplina (contro distrazione, noia, ecc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dare un buon contatto visivo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avere buona capacità di concentrazion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dare un feed-back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911320" y="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04920"/>
            <a:ext cx="628956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DECADIMENTO DEL MESSAGG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9240" y="2155680"/>
            <a:ext cx="833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’emittente deve sapere ______________ 1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’emittente sa  ______________________ 8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ricevente dice_____________________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ricevente ascolta ____________________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ricevente capisce ____________________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ricevente accetta ____________________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ricevente ricorda _____________________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ricevente agisce _______________________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911320" y="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380880"/>
            <a:ext cx="35258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SSERTIVIT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1960" y="1981080"/>
            <a:ext cx="863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1752480"/>
            <a:ext cx="8778960" cy="44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apacitò di esprimere il proprio punto di vista apertamente senza mostrare remissività né aggressività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’ assertivo chi è capace di congratularsi o lamentarsi del lavoro o comportamento dei propri colleghi e superiori, chi crea un suo stile nei rapporti di lavoro, chi modella la propria vita invece di subirla,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empre nel rispetto di sé e dell’altr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39040" y="64771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380880"/>
            <a:ext cx="71629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FUNZIONI DELLA  COMUNIC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458360"/>
            <a:ext cx="87631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ZIONE EMOTIVA ED ESPRESSIV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imenti, pensieri, opinioni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ZIONE INFORMATIV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smissione pressoché oggettiva di dati, inform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ZIONE DI CONTATT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 entrare in contatto, mantenere o interrompere il conta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06720" y="422280"/>
            <a:ext cx="17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11320" y="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1960" y="1981080"/>
            <a:ext cx="863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905120"/>
            <a:ext cx="87026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ttitudine che permette,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partendo da una chiara analisi della situazion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di definire chiaramente la propria posizione e obiettivo di fronte alla situazione stessa; svelarla con chiarezza, difenderla senza aggressività, anche in presenza di un atteggiamento diverso da parte del nostro interlocutor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533520"/>
            <a:ext cx="35258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SSERTIVIT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911320" y="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1960" y="1981080"/>
            <a:ext cx="863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040" y="1905120"/>
            <a:ext cx="87789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omporta due parti importanti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una parte d’ascolto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di attenzione dedicata agli altri, di sforzo per ammettere e comprendere la situazion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una parte di espression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per riuscire a spiegare all’altro la nostra posizione cercando, per quanto possibile, di fargliela ammettere e rispettar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533520"/>
            <a:ext cx="35258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SSERTIVIT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911320" y="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1960" y="1981080"/>
            <a:ext cx="863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676520"/>
            <a:ext cx="87789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CO-COSTRUZIONE PROCESSO INTERLOCUTOR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ANALISI BISOGNO FORMATIV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ANALISI RISORSE UMA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ANALISI RISORSE ORGANIZZA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DEFINIZIONE OBIETTIVI (informare, addestrare, educar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VALUTAZIONE EFFICACI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53352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COMUNICAZIONE - FORM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911320" y="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1960" y="1981080"/>
            <a:ext cx="863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676520"/>
            <a:ext cx="87789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SCELTA DEL GRUPPO (PICCOLO GRUPPO 12-15 P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&gt; Relazioni significa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&gt; Coinvolgimen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&gt; Attenzione condutto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&gt; Monitoraggi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3352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COMUNICAZIONE - FORM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911320" y="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1960" y="1981080"/>
            <a:ext cx="863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1676520"/>
            <a:ext cx="877896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DISPOSIZIONE AUL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Evitare eccessiva distanza  fisica tra formatore e discen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Possibilità di vedere il formator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Possibilità di vedersi a vicen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53352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COMUNICAZIONE - FORM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380880"/>
            <a:ext cx="71629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FUNZIONI DELLA  COMUNIC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41240"/>
            <a:ext cx="87631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ZIONE POE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 rendere il discorso più piacev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ZIONE METALINGU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lare della lingua, diziona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ZIONE PERSUASIV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à di convincere l’altro, pubblicità, discorsi poli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838080"/>
            <a:ext cx="8705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comportamento umano è guidato da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SO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averso questa guida è possibile rimuovere o aggirare eventuali deficienze e trovare il modo di ottenere le soddisfazioni manca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icerca europ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ogni fisiologic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ogni di sicurezz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ogni associativ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ogni di stim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izzazione di S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-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9240" y="1066680"/>
            <a:ext cx="8705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Bisogni fisiologic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ono definiti bisogni primari, come il mangiare, il bere, dormire, ripararsi dagli agenti esterni,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ueste divengono emergenti e di particolare importanza, qualora non venissero soddisfa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Bisogni di sicur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deve essere inteso solo come garanzia dalle privazioni, ma anche come garanzia dai pericoli, dalle minac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curezza personale quali: sicurezza del posto di lavoro, sicurezza economica, per il futuro,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228600"/>
            <a:ext cx="502920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BISOG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9240" y="1066680"/>
            <a:ext cx="870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Bisogni associativ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mplicano il bisogno dell’uomo di sentirsi parte di uno o più gruppi ed essere accett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Bisogni di 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ono definiti bisogni dell’Io, si riferiscono alla stima che l’individuo a di sé, al bisogno di rispetto e fiducia nelle proprie capacità e potenzialit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isogni di essere valutato, apprezzato, stim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8600"/>
            <a:ext cx="502920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BISOG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9240" y="1066680"/>
            <a:ext cx="870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ealizzazione di 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isogno di autorealizzazione, è il bisogno di reagire coerentemente alla propria natura e di sviluppare le proprie attitudini potenziali (comportamento creativ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’ meno avvertito dalla gente, troppo occupata a soddisfare i bisogni inferio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strazione genitori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"/>
            <a:ext cx="502920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BISOG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124080"/>
            <a:ext cx="198144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1676520" cy="7621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533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LLO SHANNON - WEA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5053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3399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3429000"/>
            <a:ext cx="139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MESSAGG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905120"/>
            <a:ext cx="76320" cy="33526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99880" y="5659560"/>
            <a:ext cx="1058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omic Sans MS"/>
              </a:rPr>
              <a:t>RUM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50532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3399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3480" y="3429000"/>
            <a:ext cx="1505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DECODIF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50532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3399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7440" y="335268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MITT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41200" y="3429000"/>
            <a:ext cx="1351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RICEV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8:37:24Z</dcterms:created>
  <dc:creator>Onoratim</dc:creator>
  <dc:description/>
  <dc:language>en-US</dc:language>
  <cp:lastModifiedBy>ErbiF</cp:lastModifiedBy>
  <cp:lastPrinted>2001-10-08T13:44:49Z</cp:lastPrinted>
  <dcterms:modified xsi:type="dcterms:W3CDTF">2004-09-23T14:59:48Z</dcterms:modified>
  <cp:revision>242</cp:revision>
  <dc:subject/>
  <dc:title>Nessun titolo diapositiva</dc:title>
</cp:coreProperties>
</file>