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DD8-883A-4C5C-AF24-B465BFAE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3B5-1611-4234-95A3-8582EF29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D5B-B868-4C34-BDA6-20C3C16B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779-8FC5-4F4C-A8C2-CE3AD0D8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01D-8CAD-46DE-84D3-6F0E3034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0D6-4288-46E0-9BAB-35C686A4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4CC-A9C0-4ADB-90AF-0C49F69F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929-007B-411E-ADB2-5D9C3316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6CA-B1F4-4584-ABD4-AAB4B38D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FA5-BA4E-4C28-956A-FF03131C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37E-ACBF-44AF-B8A0-9B66FEEB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03D-CE8E-4A54-B43F-D10D1BCE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EAA2-698B-460B-9238-95D869376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066680"/>
            <a:ext cx="76197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GETTO M.I.U.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agrafe dell’edilizia scola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03240" y="6033960"/>
            <a:ext cx="55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ttembre - Ottobr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1120" y="1371600"/>
          <a:ext cx="63792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1371600"/>
                    <a:ext cx="6379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92040"/>
            <a:ext cx="822960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 ATTIVITA’ PRELIMINA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828800"/>
            <a:ext cx="863640" cy="480960"/>
          </a:xfrm>
          <a:prstGeom prst="rightArrow">
            <a:avLst>
              <a:gd name="adj1" fmla="val 50000"/>
              <a:gd name="adj2" fmla="val 44891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3419640"/>
            <a:ext cx="863640" cy="482400"/>
          </a:xfrm>
          <a:prstGeom prst="rightArrow">
            <a:avLst>
              <a:gd name="adj1" fmla="val 50000"/>
              <a:gd name="adj2" fmla="val 44757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4290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cerca delle Planimetrie presso l’Ente Locale o presso l’edificio Scola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8288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cerca della Documentazione presso l’Ente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640" y="4575240"/>
            <a:ext cx="863640" cy="482400"/>
          </a:xfrm>
          <a:prstGeom prst="rightArrow">
            <a:avLst>
              <a:gd name="adj1" fmla="val 50000"/>
              <a:gd name="adj2" fmla="val 44757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584600"/>
            <a:ext cx="73152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cordi con il Dirigente Scolastico 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ssibilità di accesso ai locali tecn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dividuazione di un refe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probl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92040"/>
            <a:ext cx="822960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l SOPRALLUO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9250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ifiche Ester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o di conserv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pliamento e trasformazioni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92040"/>
            <a:ext cx="822960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l SOPRALLUO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828800"/>
            <a:ext cx="7925040" cy="30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ifiche Inter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zione dei locali attraverso un codice numerico sulla planimetr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corso ascendente dalla quota più bassa a quella più al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simento delle informazioni impiantistico struttural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quisizione dei dati documentali e delle informazioni generali descritte manca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600200"/>
            <a:ext cx="8076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oscenza della Qualità e Consistenza delle Strutture Scola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92040"/>
            <a:ext cx="822960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IET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36232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048120"/>
            <a:ext cx="807696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orizzazione del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sta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utiliz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s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ten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828800"/>
            <a:ext cx="863640" cy="480960"/>
          </a:xfrm>
          <a:prstGeom prst="rightArrow">
            <a:avLst>
              <a:gd name="adj1" fmla="val 50000"/>
              <a:gd name="adj2" fmla="val 44891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3419640"/>
            <a:ext cx="863640" cy="482400"/>
          </a:xfrm>
          <a:prstGeom prst="rightArrow">
            <a:avLst>
              <a:gd name="adj1" fmla="val 50000"/>
              <a:gd name="adj2" fmla="val 44757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429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L MANUALE DEL RILEVAT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1828800"/>
            <a:ext cx="7239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 SCHEDE DI ACQUISIZIONE DAT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stionario edif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stionario istituzione scolast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92040"/>
            <a:ext cx="822960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 RILEV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80880"/>
            <a:ext cx="8229600" cy="435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DIFICIO SCOLA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990720"/>
            <a:ext cx="815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dificio Scolastico deve intenders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 fabbricato o un insieme di fabbricati contigu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cioè situati nelle immediate vicinanze -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ibiti permanentemente o temporaneamente ad uso scolastic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Due fabbricati “contigui”, anche se tra loro separati da una minima intercapedine, o addirittura adiacenti, possono essere costruiti con tipologie tecnologiche completamente diverse, quindi, rappresentare due distinti organismi edilizi (o struttur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073320"/>
            <a:ext cx="2895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stionario Edif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37240" y="3073320"/>
            <a:ext cx="3746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stionario Istituzione Scola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4280040"/>
            <a:ext cx="807732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igu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ogeneità strutturale e Tecnologic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fabbricato o un insieme di fabbricati contigui, tali da costituire un unico organismo edilizio e statico, realizzando così tra loro una completa solidarietà struttura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 Casi Possibi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9800" y="431640"/>
            <a:ext cx="8280360" cy="361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Unico Edificio Scolastico Ospitante più Sedi Scolast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90720" y="1295280"/>
          <a:ext cx="7238880" cy="451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7238880" cy="45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9800" y="431640"/>
            <a:ext cx="8280360" cy="361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difici Scolastici Conti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66680" y="1036800"/>
          <a:ext cx="7086600" cy="518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036800"/>
                    <a:ext cx="70866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9800" y="431640"/>
            <a:ext cx="8280360" cy="361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difici Scolastici Collegati da Percorso Este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38080" y="1225440"/>
          <a:ext cx="7315200" cy="459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25440"/>
                    <a:ext cx="731520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92040"/>
            <a:ext cx="822960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 TIPOLOGIA di Inform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295280"/>
            <a:ext cx="8077320" cy="373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e Fonti di Acquisizione dei Da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ati identificativi ed anagrafici dell’edificio scolastic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ati desumibili da certificazioni od altra documentazione reperibile presso l’Ente proprietario dell’edificio e/o presso l’Istituto medesim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ati misurabil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ati desumibili da valutazioni qualitativo-descrit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00400" y="1828800"/>
            <a:ext cx="863640" cy="480960"/>
          </a:xfrm>
          <a:prstGeom prst="rightArrow">
            <a:avLst>
              <a:gd name="adj1" fmla="val 50000"/>
              <a:gd name="adj2" fmla="val 44891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167652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TE LO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nico Edilizia Scola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92040"/>
            <a:ext cx="822960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 ATTIVITA’ PRELIMINA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8288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ividuare dei Refe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2463840"/>
            <a:ext cx="433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TITUTO SCOLA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igente Scolastico o persona deleg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708360"/>
            <a:ext cx="863640" cy="480960"/>
          </a:xfrm>
          <a:prstGeom prst="rightArrow">
            <a:avLst>
              <a:gd name="adj1" fmla="val 50000"/>
              <a:gd name="adj2" fmla="val 44891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3556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ZIONE ANAGRA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708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nvio Preventivo di Check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03848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ZIONE DOCUMEN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800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endario dei Sopralluog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8:37:24Z</dcterms:created>
  <dc:creator>Onoratim</dc:creator>
  <dc:description/>
  <dc:language>en-US</dc:language>
  <cp:lastModifiedBy>ScirpaM</cp:lastModifiedBy>
  <cp:lastPrinted>2001-10-08T13:44:49Z</cp:lastPrinted>
  <dcterms:modified xsi:type="dcterms:W3CDTF">2004-09-22T12:31:11Z</dcterms:modified>
  <cp:revision>147</cp:revision>
  <dc:subject/>
  <dc:title>Nessun titolo diapositiva</dc:title>
</cp:coreProperties>
</file>