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C80-9A5D-4154-933E-2B34E98D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1C7-1385-4C3B-B628-0182692C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373-D94D-495B-BF8F-C534B7CD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6AF-6947-49B8-AC1A-1DBCDE5E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4CD-2674-4AC2-B4DB-6D86C5C7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37B-EDAF-4E5C-A1F1-3141B80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1FB-495B-4568-8173-C2159EF7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EA1-2330-4DFA-BA56-76E69E07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264-A83A-4CC1-B565-8DC6C0F6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1EE-8CB0-4BBB-BDDF-8C476A9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714-BA0A-4F9F-9DE7-EE2ED9FF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4B0-25BA-40FC-9C31-AE475256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39EC-96DA-4873-893A-510A16674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066680"/>
            <a:ext cx="76197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GETTO M.I.U.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agrafe dell’edilizia scola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03240" y="6033960"/>
            <a:ext cx="55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tem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1120" y="1371600"/>
          <a:ext cx="6379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1371600"/>
                    <a:ext cx="6379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UALE DEL RILEVATO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75248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INAL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30481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4197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28954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PPORTARE IL RILEVATORE MEDIANTE LA DESCRIZIONE ED ILLUSTRAZIONE DELLE MODALITA’ DI COMPILAZIONE DELLE SCH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4038480"/>
            <a:ext cx="624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BILIRE LE REGOLE PER LA RILEVAZIONE E ACQUISIZIONE DEI DATI E DELLE INFORMAZIONI AL FINE DI GARANTIRE UN’UNIFORMITA’ DI INTERVENTO E UNA RILEVAZIONE QUANTO PIU’ POSSIBILE OGGETTIVA ED UNIVO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MINI E DEFINIZIONI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089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TITUZIONE SCOLA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1981080"/>
            <a:ext cx="5694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utte le sedi scolastiche elencate nel bollettino ufficiale delle Scuole Statali (scuola dell’infanzia, scuola primaria, sedi centrali della scuola media secondaria di I e II grado, istituti superiori, ecc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841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TITUTI COMPRENS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stituzioni scolastiche da cui dipendono scuole materne, plessi di scuola elementare e sezioni di scuola secondaria di I g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410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TITUTI SUPERI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334120"/>
            <a:ext cx="5715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stituzioni scolastiche da cui dipendono dive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logie di scuole secondarie di II g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55960" y="642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533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MINI E DEFINI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708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DI CENTR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ZIONI ASSOC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5080" y="38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CCURS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952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UOLE ANN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808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de amministrativa principale dell’Istituzione scola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72268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di di erogazione del servizio che dipendono da una sede cent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8098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zioni della singola scuola che fisicamente risultano distaccate dalla sede princip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502920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uole annesse ad istituti d’Arte, a convitti, a conservatori ed educan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MINI E DEFINIZIONI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362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ICE MECCANOGRA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724280"/>
            <a:ext cx="241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DIFICIO SCOLA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475160"/>
            <a:ext cx="4953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bbricato o insieme di fabbricati contigui, tali da costituire un unico organismo edilizio e statico, realizzando tra loro una completa solidarietà struttu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494080"/>
            <a:ext cx="4953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dice identificativo dell’Istituzione scolastica costituito da 10 caratteri seguiti da due numeri progressivi (00 per la sede centrale, 01,02,…per le eventuali succurs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31640" y="2376360"/>
            <a:ext cx="863640" cy="481320"/>
          </a:xfrm>
          <a:prstGeom prst="rightArrow">
            <a:avLst>
              <a:gd name="adj1" fmla="val 50000"/>
              <a:gd name="adj2" fmla="val 44858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960" y="3876840"/>
            <a:ext cx="863640" cy="482400"/>
          </a:xfrm>
          <a:prstGeom prst="rightArrow">
            <a:avLst>
              <a:gd name="adj1" fmla="val 50000"/>
              <a:gd name="adj2" fmla="val 44757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37339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vvedere, attraverso l’intervento degli Enti locali, al risanamento del patrimonio nazionale dell’edilizia scola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209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ificare lo stato di conservazione del patrimonio nazionale dell’edilizia scola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92040"/>
            <a:ext cx="82296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IETTIVI GENE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562720"/>
            <a:ext cx="863640" cy="482400"/>
          </a:xfrm>
          <a:prstGeom prst="rightArrow">
            <a:avLst>
              <a:gd name="adj1" fmla="val 50000"/>
              <a:gd name="adj2" fmla="val 44757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5627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irizzo dei piani poliennali degli interv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828800"/>
            <a:ext cx="863640" cy="480960"/>
          </a:xfrm>
          <a:prstGeom prst="rightArrow">
            <a:avLst>
              <a:gd name="adj1" fmla="val 50000"/>
              <a:gd name="adj2" fmla="val 44891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098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8862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azione del Manuale del Rileva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8288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ituzione del grupp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92040"/>
            <a:ext cx="82296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 SVILUPPO DEL PROGE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640" y="4867200"/>
            <a:ext cx="863640" cy="482760"/>
          </a:xfrm>
          <a:prstGeom prst="rightArrow">
            <a:avLst>
              <a:gd name="adj1" fmla="val 50000"/>
              <a:gd name="adj2" fmla="val 44724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48006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mazione dei Formatori, dei Rilevatori e dei Tecnici dei nodi Regionali (In Aula e con CBT/WB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666880"/>
            <a:ext cx="914400" cy="480960"/>
          </a:xfrm>
          <a:prstGeom prst="rightArrow">
            <a:avLst>
              <a:gd name="adj1" fmla="val 50000"/>
              <a:gd name="adj2" fmla="val 47530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2749680"/>
            <a:ext cx="7162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azione delle Schede di Rilevazione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2819520" cy="2571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8eda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80880"/>
            <a:ext cx="8229600" cy="435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l PROGETTO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057400"/>
            <a:ext cx="701028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PRALLUOGHI PRESSO LE SCUOLE E GLI ENTI LOCALI COMPETENTI PER L’ACQUISIZIONE DELLE INFORMAZIONI NECESS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MISSIONE DEI DATI RACCOLTI NEL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ABORAZIONE DEI DATI RACCOL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9907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Le fasi del processo di acquisizione dei d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HEDE DI VALUTAZION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4880" y="2243160"/>
            <a:ext cx="420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INAL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9718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40384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52578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003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QUISIRE I DATI IN MODO OGGET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962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PPRESENTARE IN MODO COMPLETO LO STATO DEL PATRIMONIO DELL’EDILIZIA SCOLA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51055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NIRE LE INFORMAZIONI NECESSARIE PER LA SUCCESSIVA PIANIFICAZIONE E QUALIFICAZIONE DEGLI INTERV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HEDE DI VALUTAZION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34920" y="198108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IP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292752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STIONARIO DELL’EDIFICIO SCOLA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6054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STIONARIO DELL’ISTITUZIONE SCOLA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8954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5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ZIONE A – Identificazione dell’edifici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ZIONE B – Notizie generali sull’ubicazione dell’edificio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.0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BICAZIONE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.1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ATI CATASTALI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2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LLEGAMENTI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3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MBIENTE ED AREA SCOLASTICA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.4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ATTERISTICHE E CONSISTENZA DELL'AREA SCOLASTICA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ZIONE C – Notizie generali dell’edificio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.5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TOLO DI GODIMENTO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.6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TILIZZAZIONE DELL'EDIFICIO 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.7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ORIGINE ED ETÀ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.8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TATO DI CONSERVAZIONE DEL CORPO DI FABBRICA PRINCIPAL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1800" y="20952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STIONARIO DELL’EDIFIC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947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TENUTI DELLE SCH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2286000"/>
            <a:ext cx="80010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ZIONE D - Condizioni di sicurezza e requisiti particolari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9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DIZIONI DI SICUREZZ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10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QUISITI PARTICOLARI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ZIONE E - Caratteristiche funzionali e dimensioni degli spazi in us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ZIONE F - Attrezzature sportive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1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IZIE SULLE PALESTRE (INFRASTRUTTURE SPORTIVE COPERTE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1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IZIE SUGLI IMPIANTI SPORTIVI ALL’APERTO E SULLE PISC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ZIONE G - Altre informazioni e osservazioni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13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IZIE SUL SERVIZIO MENS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14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ENDA AGRICOL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95320" y="22860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STIONARIO DELL’EDIFIC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5320" y="1066680"/>
            <a:ext cx="73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TENUTI DELLE SCH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STIONARIO DELL’EDIFICIO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1320" y="1752480"/>
            <a:ext cx="74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IPOLOGIA DI DATI E/INFORMAZION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27003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ti identificativi ed anagrafi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84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ti desumibili da certificazioni o altra docu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070520"/>
            <a:ext cx="65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ti misurabili per rilevazione diretta e/o strumen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39800" y="4832280"/>
            <a:ext cx="61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ti desumibili da valutazioni qualitativo-descrit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743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352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038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8:37:24Z</dcterms:created>
  <dc:creator>Onoratim</dc:creator>
  <dc:description/>
  <dc:language>en-US</dc:language>
  <cp:lastModifiedBy> </cp:lastModifiedBy>
  <cp:lastPrinted>2001-10-08T13:44:49Z</cp:lastPrinted>
  <dcterms:modified xsi:type="dcterms:W3CDTF">2004-09-22T09:08:09Z</dcterms:modified>
  <cp:revision>167</cp:revision>
  <dc:subject/>
  <dc:title>Nessun titolo diapositiva</dc:title>
</cp:coreProperties>
</file>