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6CD-7FB4-4036-8AC2-1C946205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7E3-C930-4E94-AF6E-447AE5C2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361-AF62-485C-A9E9-9B9EE5EA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6FA-2660-4655-9376-F3832E8C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BF6-F20C-4C28-85E6-44C85D99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549-74CC-4569-A173-1CB61746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18B-9AAB-44F8-A540-E5AB6BD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080-AD22-47E4-9A9F-D4228F9D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600-4BF7-4EE1-869F-2CE49EA9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23D-9FBA-4283-A447-19E0070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749-B405-43B7-96D6-A30C758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FA5-B2CC-4D33-A6C0-BCF72A99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F70F-6AFB-4350-B106-563ACFF14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_ppt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8108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81080" y="304920"/>
          <a:ext cx="909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04920"/>
                    <a:ext cx="909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1371600"/>
          <a:ext cx="38862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371600"/>
                    <a:ext cx="38862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rchitettura Organizzativa delle Attività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levazione e Cens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943600"/>
            <a:ext cx="784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tt. Piero Santant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81080"/>
            <a:ext cx="6934320" cy="247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ETTO M.I.U.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grafe dell’edilizia scola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ilevazione dell’Anagrafica dell’Edilizia Scolastica organigramma del progetto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o degli edifici scolastic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ensione del gruppo di lavor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dei risultati e rispetto della tempistica di proget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ogeneità dell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za nel un gruppo di lavoro di professionalità composite per assicurare il necessario supporto e consulenza al personale di rilevazione per tutta la durata della stes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grafia e strade di a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delle direttrici e delle vie di acces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timizzare gli spostamenti in considerazione delle vaste zone che ogni provincia compr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imes New Roman"/>
              </a:rPr>
              <a:t>Organigramma del Gruppo di Lavoro </a:t>
            </a:r>
            <a:br>
              <a:rPr sz="2500"/>
            </a:br>
            <a:r>
              <a:rPr b="0" lang="it-IT" sz="2500" spc="-1" strike="noStrike">
                <a:solidFill>
                  <a:srgbClr val="000000"/>
                </a:solidFill>
                <a:latin typeface="Times New Roman"/>
              </a:rPr>
              <a:t>Regionale per rilevazione 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1219320"/>
          <a:ext cx="5573880" cy="57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219320"/>
                    <a:ext cx="55738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47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occupa di tre distinti livelli di attivi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one manageriale del prog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viluppo dei contenuti tec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one del cliente ed il controllo di qual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In quest’ultima attività è assistito e coadiuvato da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egreteria Tecn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agli Organi di Controllo di Qualità della socie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lo svolgimento di tali ruoli si ritiene necessario che il Project Manager possegga almeno i seguenti requisi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truzione a livello almeno di Laurea universita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perienza pluriennale nella conduzione di progetti compless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ti di Leader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oscenza delle tecniche di Project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sulenza Tecnica Specialistica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lenza Tecnica specialist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volge le seguenti fun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6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ica della gestione del proget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di tutti gli standard di relazioni tecniche e di altri output al Cl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ressione di pareri specifici a fronte delle richieste dei tecnici delle squadre oper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l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volgimento di tali ruo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necessario che il personale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b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6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truzione a livello almeno di Laurea universita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rienza plurien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à di trasmissione efficace delle inform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greteria tecnica di Progetto e Coordinamento Operativo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ufficio 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greteria Tecn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garantisce il costante e sistematico flusso delle informazion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si occupa di raccogliere tutte le comunicazioni provenienti dal Cli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aggiorna costantemente il P.M. dell’andamento delle attivit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lo svolgimento di tali ruoli è necessario che il personale interessato abbia almeno i seguenti requisi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’addetto tecnic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struzione a livello almeno di Laurea universitar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sperienza nello svolgimento delle attività di supporto tecnico al P.M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mpetenza tecnica specifica negli argomenti oggetto delle attività, al fine di garantire l’immediata comprensione dei problemi e la prima proposta delle soluzion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uone capacità relazionali e capacità di trasmissione efficace delle informazion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’addetto di segreteria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struzione a livello di scuola secondar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sperienza nello svolgimento delle attività di segreteria d’azien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uone capacità relaz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quadre Operative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volgono le attività di rilev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il primo popolamento del Data Base dell’Anagrafe, mediante sopralluoghi e la compilazione di opportune sche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orre prevedere un gruppo di lavoro costituito da rilevator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avorerà full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 la durata del proget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ottimizzazione delle attiv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ottiene in funzione dei segu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ocazione geografica degli edifici nel territor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abilità locale che favorisca l’accessibilità agli edifi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i di realizzazione del proget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mensionamento del gruppo di lavoro 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a Regione con 3000 edifici scolastici, sarebbe necessario un gruppo di lavoro che garantisca 300 mesi/uomo; il tempo previsto per il completamento delle attività di rilevazione fosse pari a 10 mesi; occorrono circa 30 rilevato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8:37:24Z</dcterms:created>
  <dc:creator>Onoratim</dc:creator>
  <dc:description/>
  <dc:language>en-US</dc:language>
  <cp:lastModifiedBy> </cp:lastModifiedBy>
  <cp:lastPrinted>2001-10-08T13:44:49Z</cp:lastPrinted>
  <dcterms:modified xsi:type="dcterms:W3CDTF">2004-09-22T09:46:41Z</dcterms:modified>
  <cp:revision>187</cp:revision>
  <dc:subject/>
  <dc:title>Nessun titolo diapositiva</dc:title>
</cp:coreProperties>
</file>