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7C4-6637-4AC6-B037-15C5FA99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021-EAF1-40E0-AB95-D25F5525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AE4-6075-4588-9134-32728D85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BEC-251D-45B9-93C7-9D66B458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BFC-98EF-4768-98CC-C946474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F48-2909-4280-AAC2-5B8EAA27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4C0-D09B-4FC7-AB8A-9079FB51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D08-70D3-43F3-87E2-3787D62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940-7BB6-4E40-9CBE-76439AC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81A-61C1-4FDB-BAAA-DF8E074C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7BD-766F-4660-919E-0233F27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331-F748-42C8-9BAF-E7CDA9F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DE9C-B89C-4273-B65B-F1DAC0ECF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066680"/>
            <a:ext cx="7619760" cy="330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3240" y="6033960"/>
            <a:ext cx="55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t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1120" y="1371600"/>
          <a:ext cx="6379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371600"/>
                    <a:ext cx="637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523880"/>
            <a:ext cx="90676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Superamento dei modelli linear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ascita dei modelli che definiscono la comunicazione come evento interattivo in cui ogni partecipante occupa tutti i ruol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Filone di studi e ricerche cognitiviste - costruzione della real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0880"/>
            <a:ext cx="49528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80880"/>
            <a:ext cx="5778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RAPPORTO SOGGETTO-REAL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28800"/>
            <a:ext cx="8852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rappresentazione di un oggetto non è un sua copia, ma una su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ricostru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non vi è rapporto immediato né sovrapposizione tra realtà interna ed es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tte le nostre percezioni sono mediate d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mi mental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ttraverso cui si semplificano ed organizzano le conoscenze in funzione di influenze di carattere situazionale, sociale e cultu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2480" y="30492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447920"/>
            <a:ext cx="6213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e persone non sono passivi ricevi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2971800"/>
            <a:ext cx="8778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gni informazione è filtrata, organizzata, ristrutturata ed infine collocata in categorie che gli permettono di semplificare ed organizzare la complessità delle esperienze social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828800"/>
            <a:ext cx="87058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Economizzatore di risorse cogn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Si attua attraverso l’uso di meccanismi psicologici definit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omic Sans MS"/>
              </a:rPr>
              <a:t>inferenze categoriali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Rappresentatività 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può portare ad errori di stima dovuti alla visione soggettiva e all’attribuzione di somiglianza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Disponibilità </a:t>
            </a:r>
            <a:r>
              <a:rPr b="0" lang="it-IT" sz="2300" spc="-1" strike="noStrike">
                <a:solidFill>
                  <a:srgbClr val="000000"/>
                </a:solidFill>
                <a:latin typeface="Comic Sans MS"/>
              </a:rPr>
              <a:t>frequenza o probabilità in funzione alla facilità di associazione al ripetersi delle esperienze</a:t>
            </a:r>
            <a:r>
              <a:rPr b="1" lang="it-IT" sz="23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39040" y="643104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133720"/>
            <a:ext cx="863280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cienziato ingenu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igenza di trovare sempre un nesso causale tra le co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icercatore di coere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endenza a mantenere un elevato grado di coerenza tra le proprie credenze e le informazioni raccol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53352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PERCE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03840" y="5335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LO DI INTERAZIONE CIRCOL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2040" y="495288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114800"/>
            <a:ext cx="167652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191120"/>
            <a:ext cx="1676520" cy="7617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124080"/>
            <a:ext cx="1981080" cy="762120"/>
          </a:xfrm>
          <a:prstGeom prst="rect">
            <a:avLst/>
          </a:prstGeom>
          <a:gradFill rotWithShape="0">
            <a:gsLst>
              <a:gs pos="0">
                <a:srgbClr val="6dfb6d"/>
              </a:gs>
              <a:gs pos="100000">
                <a:srgbClr val="32733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31200" y="36576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4290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4290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80520" y="5028840"/>
            <a:ext cx="8077320" cy="1371600"/>
          </a:xfrm>
          <a:custGeom>
            <a:avLst/>
            <a:gdLst>
              <a:gd name="textAreaLeft" fmla="*/ 1413360 w 8077320"/>
              <a:gd name="textAreaRight" fmla="*/ 5856120 w 80773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1000" y="23623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40200" y="23623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200400"/>
            <a:ext cx="1828800" cy="762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31240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92040" y="228600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752480"/>
            <a:ext cx="8077320" cy="1371600"/>
          </a:xfrm>
          <a:custGeom>
            <a:avLst/>
            <a:gdLst>
              <a:gd name="textAreaLeft" fmla="*/ 1413360 w 8077320"/>
              <a:gd name="textAreaRight" fmla="*/ 5856120 w 80773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1000" y="53341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5120" y="525780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2400" y="259092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40200" y="2438280"/>
            <a:ext cx="114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3352680"/>
            <a:ext cx="138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MITT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1200" y="3352680"/>
            <a:ext cx="135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35268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ESSAGG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487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7000" y="4419720"/>
            <a:ext cx="15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447920"/>
            <a:ext cx="863280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CAN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Mezzo fisico che rende possibile ladiffusione de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Colui che riceve e interpreta i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FINIZIO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447920"/>
            <a:ext cx="86328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lui che produce il messagg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D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istema di riferimento in base al quale il messaggio viene prodot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ESSAGGI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formazione trasmessa secondo le regole del cod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880"/>
            <a:ext cx="51213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FINIZIO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stacoli oggettivi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formul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celta del mez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problemi tecni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precisione del pensie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espress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76720"/>
            <a:ext cx="685800" cy="167616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37280" y="35755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Legati alla personalità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atteggia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oggettivi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toria person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noscenza di sé stes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alarsi nell’al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3276720"/>
            <a:ext cx="685800" cy="167616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37280" y="35755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2362320"/>
            <a:ext cx="906768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il termine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MUNICAZION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intende la capacità di  trasferire inform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un processo di influenzamento reciproco che avviene tra due o più pers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80880"/>
            <a:ext cx="49528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EMITT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Fattori psicosocial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ruol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definizione preci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ruoli e obietti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noscenza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08440" y="32724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295280"/>
            <a:ext cx="86328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stacoli oggettiv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omprens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satur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formul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disponibilità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capacità d’ascol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08440" y="32724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1120" y="5632920"/>
            <a:ext cx="132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te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295280"/>
            <a:ext cx="86328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Legati alla personalità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perce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deformazion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interpret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61080" y="372960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27672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8088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OSTACOLI DELLA 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86328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800000"/>
                </a:solidFill>
                <a:latin typeface="Comic Sans MS"/>
              </a:rPr>
              <a:t>RICEV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Comic Sans MS"/>
              </a:rPr>
              <a:t>Fattori psicosociali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ruol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- situaz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03880" y="3348720"/>
            <a:ext cx="134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sta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200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1447920"/>
            <a:ext cx="8632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0880"/>
            <a:ext cx="6019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390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295280"/>
            <a:ext cx="25146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PARA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omic Sans MS"/>
              </a:rPr>
              <a:t>NON VERB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144792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6668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1290960"/>
            <a:ext cx="4297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OLE, FRASI, DISCO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359440"/>
            <a:ext cx="42973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NO, TIMBRO, VOLUME, INFLE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3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883320"/>
            <a:ext cx="4297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NGUAGGIO DEL COR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A AL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11320" y="42696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33520"/>
            <a:ext cx="6730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A COMUNICAZIONE NON VERB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828800"/>
            <a:ext cx="680256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spetto fis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estuali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stur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pressioni del vol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irezione dello sguar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no della vo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ist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9560" y="228600"/>
            <a:ext cx="51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11320" y="42696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380880"/>
            <a:ext cx="6730920" cy="885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UN EMITTENTE PER COMUNICARE EFFICACEMENTE DE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905120"/>
            <a:ext cx="87058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ichiarare lo scop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scegliere il codice appropriat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informazioni utili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garantire coerenza tra messaggio e meta-comunic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capire o chiedere feed-back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tenere conto dei giudizi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609480"/>
            <a:ext cx="56325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UN BUON ASCOLTATORE DE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057400"/>
            <a:ext cx="870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assumere atteggiamento positivo e incoraggiante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mostrare interess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praticare l’autodisciplina (contro distrazione, noia, ecc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un buon contatto visivo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avere buona capacità di concentr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omic Sans MS"/>
              </a:rPr>
              <a:t>dare un feed-back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04920"/>
            <a:ext cx="628956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ECADIMENTO DEL MESSAGG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9240" y="2155680"/>
            <a:ext cx="833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mittente deve sapere ______________ 1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mittente sa  ______________________ 8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ricevente dice_____________________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scolta ____________________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capisce ____________________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ccetta ____________________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ricorda _____________________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cevente agisce _______________________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38088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752480"/>
            <a:ext cx="877896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pacitò di esprimere il proprio punto di vista apertamente senza mostrare remissività né aggressività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’ assertivo chi è capace di congratularsi o lamentarsi del lavoro o comportamento dei propri colleghi e superiori, chi crea un suo stile nei rapporti di lavoro, chi modella la propria vita invece di subirla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empre nel rispetto di sé e dell’al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39040" y="64771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380880"/>
            <a:ext cx="7162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FUNZIONI DELLA 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458360"/>
            <a:ext cx="87631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EMOTIVA ED ESPRESSI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menti, pensieri, opinioni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INFORMATI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smissione pressoché oggettiva di dati,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DI CONTAT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entrare in contatto, mantenere o interrompere il conta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06720" y="42228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905120"/>
            <a:ext cx="8702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ttitudine che permet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partendo da una chiara analisi della situazio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di definire chiaramente la propria posizione e obiettivo di fronte alla situazione stessa; svelarla con chiarezza, difenderla senza aggressività, anche in presenza di un atteggiamento diverso da parte del nostro interlocuto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3352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040" y="1905120"/>
            <a:ext cx="8778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mporta due parti importanti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na parte d’ascolt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di attenzione dedicata agli altri, di sforzo per ammettere e comprendere la situazion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una parte di espression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per riuscire a spiegare all’altro la nostra posizione cercando, per quanto possibile, di fargliela ammettere e rispetta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533520"/>
            <a:ext cx="35258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SSER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676520"/>
            <a:ext cx="8778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O-COSTRUZIONE PROCESSO INTERLOCUTO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BISOGNO FORMATIV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RISORSE UMA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ANALISI RISORSE ORGANIZZA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DEFINIZIONE OBIETTIVI (informare, addestrare, educar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VALUTAZIONE EFFICACI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676520"/>
            <a:ext cx="8778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SCELTA DEL GRUPPO (PICCOLO GRUPPO 12-15 P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Relazioni significa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Coinvolgimen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Attenzione condutt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&gt; Monitoraggi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11320" y="0"/>
            <a:ext cx="1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1960" y="1981080"/>
            <a:ext cx="863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676520"/>
            <a:ext cx="877896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SPOSIZIONE AU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Evitare eccessiva distanza  fisica tra formatore e discen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Possibilità di vedere il formator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Possibilità di vedersi a vicen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3915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COMUNICAZIONE - FORM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93240" y="63547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380880"/>
            <a:ext cx="716292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FUNZIONI DELLA  COMUNIC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4124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PO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rendere il discorso più piacev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METALING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lare della lingua, dizio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ZIONE PERSUASIV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à di convincere l’altro, pubblicità, discorsi poli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838080"/>
            <a:ext cx="8705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comportamento umano è guidato da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averso questa guida è possibile rimuovere o aggirare eventuali deficienze e trovare il modo di ottenere le soddisfazioni manc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icerca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fisiologic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di sicurez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associa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di sti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zazione di S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240" y="1066680"/>
            <a:ext cx="870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 fisiologic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definiti bisogni primari, come il mangiare, il bere, dormire, ripararsi dagli agenti estern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e divengono emergenti e di particolare importanza, qualora non venissero soddisfa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 di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deve essere inteso solo come garanzia dalle privazioni, ma anche come garanzia dai pericoli, dalle minac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curezza personale quali: sicurezza del posto di lavoro, sicurezza economica, per il futuro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9240" y="1066680"/>
            <a:ext cx="87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 associa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cano il bisogno dell’uomo di sentirsi parte di uno o più gruppi ed essere accet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i di 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definiti bisogni dell’Io, si riferiscono alla stima che l’individuo ha di sé, al bisogno di rispetto e fiducia nelle proprie capacità e potenzial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ogni di essere valutato, apprezzato, sti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240" y="1066680"/>
            <a:ext cx="87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ealizzazione di 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isogno di autorealizzazione, è il bisogno di reagire coerentemente alla propria natura e di sviluppare le proprie attitudini potenziali (comportamento crea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’ meno avvertito dalla gente, troppo occupata a soddisfare i bisogni inferi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strazione genito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"/>
            <a:ext cx="502920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BISOG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124080"/>
            <a:ext cx="198144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676520" cy="7621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LO SHANNON - WEA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5053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429000"/>
            <a:ext cx="139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ESSAGG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905120"/>
            <a:ext cx="76320" cy="3352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9880" y="5659560"/>
            <a:ext cx="1058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480" y="3429000"/>
            <a:ext cx="15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CODIF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3399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7440" y="335268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T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41200" y="3429000"/>
            <a:ext cx="135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Giannetti</cp:lastModifiedBy>
  <cp:lastPrinted>2001-10-08T13:44:49Z</cp:lastPrinted>
  <dcterms:modified xsi:type="dcterms:W3CDTF">2004-10-01T07:18:12Z</dcterms:modified>
  <cp:revision>243</cp:revision>
  <dc:subject/>
  <dc:title>Nessun titolo diapositiva</dc:title>
</cp:coreProperties>
</file>